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612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956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2084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2084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E4396D5-5D3E-4CBF-BE03-8048B8D1472A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91B121-6521-44D5-AB1D-0C9F0101048E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BF7203-D68A-48B7-8B98-D8BFCC0E9257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10A370F-1E3D-487E-8878-7AAA6844FC5C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E5F6CC4-7528-48F6-8125-B441519C5CE0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8BAF9D3-7AE2-42DC-B274-D71D0606B405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7B59-82CC-4283-81AD-64E3F4B9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ED0D-FCD6-4578-A0D5-7FE79F6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4589-A044-4F94-A7CB-83F8E777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1E32-1A84-4E15-B5B4-4639669D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0D20-47E2-421F-A32E-5F439908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1EDB-5D18-464D-BE65-6802102F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700A-0FB3-47FE-948A-8D9FC795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199C-CE63-400D-A8EA-BE97DBAF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72B5-9A78-48F9-A805-3C882441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60E7-0D89-459E-BAA4-A47FCAD2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01B1-578B-4FDC-B7DC-2FFFBEE1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D5BB-53D5-4660-BC4D-B0F565C1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3D50-99BE-43E6-A6CD-445F0525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6732-F9F2-4250-B837-B8AADE14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44A7-9007-4B22-9923-BD40E34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19C1-F539-4498-8F41-C7FF542D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76CE-E7E8-4D4A-8170-89FBF2B0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9AD3-5397-44D9-8E6D-E955910E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0E0FD-E446-4FFC-BB65-117C6433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1046-6933-4427-8DFA-02E388DE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2FD9E-9E1E-4760-AD1A-88F66EB9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AA93-9323-4EFD-B412-92914A6E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585F-13FC-4862-8F62-FA98660B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3C0B8-CC70-498A-BD7F-E0797342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8CF-A69E-4107-8834-3EC0C135F07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8577-566A-4A2D-8C97-1CF4797A073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Disciplina</a:t>
            </a:r>
            <a:br>
              <a:rPr sz="5000"/>
            </a:b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Análise e Desig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RUP"/>
          <p:cNvPicPr/>
          <p:nvPr/>
        </p:nvPicPr>
        <p:blipFill>
          <a:blip r:embed="rId1"/>
          <a:stretch/>
        </p:blipFill>
        <p:spPr>
          <a:xfrm>
            <a:off x="6804000" y="189000"/>
            <a:ext cx="21528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e Design no R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UP"/>
          <p:cNvPicPr/>
          <p:nvPr/>
        </p:nvPicPr>
        <p:blipFill>
          <a:blip r:embed="rId1"/>
          <a:stretch/>
        </p:blipFill>
        <p:spPr>
          <a:xfrm>
            <a:off x="1332000" y="2276640"/>
            <a:ext cx="6419880" cy="3771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332000" y="3681360"/>
            <a:ext cx="6480000" cy="46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ormar os requisitos em um design do sistema a ser cr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envolver uma arquitetura adequada e robusta para 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aptar o design para que corresponda ao ambiente de implementação, projetando-o para fins de desempen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6" descr="Análise e Design"/>
          <p:cNvPicPr/>
          <p:nvPr/>
        </p:nvPicPr>
        <p:blipFill>
          <a:blip r:embed="rId1"/>
          <a:stretch/>
        </p:blipFill>
        <p:spPr>
          <a:xfrm>
            <a:off x="3443400" y="1413000"/>
            <a:ext cx="3112920" cy="5359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ger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96920" y="5900760"/>
            <a:ext cx="287280" cy="289080"/>
          </a:xfrm>
          <a:prstGeom prst="rect">
            <a:avLst/>
          </a:prstGeom>
          <a:solidFill>
            <a:srgbClr val="ff33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6560" y="581508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1ª iteração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96920" y="6308640"/>
            <a:ext cx="287280" cy="2890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18320" y="6313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 partir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96920" y="5491080"/>
            <a:ext cx="287280" cy="289080"/>
          </a:xfrm>
          <a:prstGeom prst="rect">
            <a:avLst/>
          </a:prstGeom>
          <a:solidFill>
            <a:srgbClr val="00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6560" y="54928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Inici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5364000" y="1989000"/>
            <a:ext cx="720720" cy="863640"/>
          </a:xfrm>
          <a:prstGeom prst="rect">
            <a:avLst/>
          </a:prstGeom>
          <a:solidFill>
            <a:srgbClr val="0066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419640" y="1989000"/>
            <a:ext cx="1296720" cy="719280"/>
          </a:xfrm>
          <a:prstGeom prst="rect">
            <a:avLst/>
          </a:prstGeom>
          <a:solidFill>
            <a:srgbClr val="ff33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19640" y="3357720"/>
            <a:ext cx="3168360" cy="2087280"/>
          </a:xfrm>
          <a:prstGeom prst="rect">
            <a:avLst/>
          </a:prstGeom>
          <a:solidFill>
            <a:srgbClr val="ffff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 curso prossegue no estudo do Processo Unificado da Rational (RUP), abordando a Análise e o Projeto Orientados a Objetos, enfatizando as técnicas e artefatos de modelagem em UML pertinentes ao ass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o Tóp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a Análise Orientada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2:41:53Z</dcterms:modified>
  <cp:revision>182</cp:revision>
  <dc:subject/>
  <dc:title>Análise e Projeto de Sistemas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